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23.jpeg" ContentType="image/jpeg"/>
  <Override PartName="/ppt/media/image21.png" ContentType="image/png"/>
  <Override PartName="/ppt/media/image29.png" ContentType="image/png"/>
  <Override PartName="/ppt/media/image6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19.jpeg" ContentType="image/jpeg"/>
  <Override PartName="/ppt/media/image5.png" ContentType="image/png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8BF-7CFE-47FF-89BB-0936FA56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CFD-E699-4D40-8A45-B3E75064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F70-5F8B-4A72-8105-4FA95A2A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1A7-862A-4858-BE78-B43E84DA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C20A-0815-4F8F-9381-C539126B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1D2F-4B3F-4E47-AFB4-A95FC134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0F72-1B6D-4E55-824D-E0057743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8770-B060-45B2-94DB-6B6970EC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38E8-8FF8-4C5B-898A-0DA6712F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6E6E-1EAE-4397-9D68-DFC75B90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6753-7072-45D8-B60A-55A0F868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A34-F523-4B3A-9024-127F687B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4303-A1B2-4B13-94B4-381BA8EA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DB85-7CA8-4A6D-B116-D8B64AD5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8B32-CED1-4A5F-9813-E7BC9855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BC32-DEA8-49BC-9D20-8C0C4B09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8836-2B81-4738-82D1-35D9D683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0663-D6CC-494F-8AB9-F13CBACB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3EBA-0C1A-4A8F-B300-DB3D4F03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CC96-F0BD-4D01-9B5F-500DCBF8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0D0C-6B0A-4559-A7D6-5440442A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35FE-6285-4645-8979-2B43983B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612-664E-47FD-9AF7-A0964116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BF09B-7669-4905-B232-3691AB61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E593-A3DF-448A-887F-CA4852EC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C3342-9D5A-4B2A-B7C1-E00E4C7E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88C0F-D90C-4F11-A464-31D5B0C6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324D-B8F1-41E7-BED8-6E20B3BE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EB6C-6950-4584-9416-4D8421D4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39602-6E08-4BFA-B89F-8A7F8D08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EBD54-6164-4AD9-A25A-0215D9FC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F2A8E-96CA-4BA6-99D8-B3F4ED81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393B-8E8D-4510-AEEB-74843763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8EA-430C-4351-B5A6-EEB12E36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A26B-D62F-4B4E-8041-96B6DEB3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21E52-D04B-44EF-B0AA-EFF81AC7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A90B-2690-4321-BF99-CE58C556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DD005-BF0A-4487-AAE5-8A25244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B1EA6-D6C1-4683-BCE7-70687F4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37B3-23D4-4DE7-AEAF-5308DDF6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76C0-AA30-40C5-A39E-BE5BB607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47F07-B9B9-4DBB-8B5D-0CFFBCCB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66C93-043C-4217-A1D3-82524D12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6CDD-66D8-4B16-9B12-497675FF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C71-3155-4A2D-9CC8-B530FBA2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CAC4-55AF-4CC7-B7CE-878E663B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E5084-A4FB-4C4A-BB03-65FE79BA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BD60-BD2A-4F6C-857F-8FC4F01C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033DD-BFAE-4DB5-92BC-5154C451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D29F1-42F4-41BB-A3CF-C0BE9E67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2F386-FFF5-4095-A09F-0C94E87B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2E211-3E61-459B-82DF-0E1107A5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70F18-B62F-4802-A03B-692FF6F8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47C00-A4B8-46B8-8B8E-5B425747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9B0E9-72B1-4F59-B6C4-0D833A63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956-5487-4315-A83E-259C9BBF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71968-21A1-473E-819C-68C53593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A506E-AA1B-4F89-9B1D-7300DA53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E541C-139A-4E63-A1B8-110C1EDC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CFAD0-558F-48BE-B4F1-42BC77F9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B80BA-FC3F-4547-AA9D-EABE8451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7E97B-A54E-4BA7-9A97-1EDD517D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3BCB-8E11-4B99-BE3D-697ACF1D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0C910-08F3-48A8-8450-ECA64B74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F3632-94DE-4716-AD46-CD018E73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8A3C-E679-4B3F-9F24-6B565BA1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B97-A4C8-4D3C-8E3B-7C4354C2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32E83-FC97-461F-9EFD-75CB7EFD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75E0F-C8CE-4D64-A273-4641CDCD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34E4D-02DC-41EF-A7BE-B74F82F4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74485-3226-438C-827E-B62AAA9F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293D7-E2E4-4125-A896-0B44041D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29BE1-F7B3-438B-8373-1F6628A6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D53AC-205E-40CF-88BD-C8506C06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3F4ED-5E44-455C-955C-10AC4DD3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D8E6C-AEA2-402C-9322-16B12592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1E9DB-00F7-4AD1-B5FD-1E708AC1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B44-1D40-4A48-BEA2-DBB13818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B96AE-BA46-4F9A-8702-2D90400A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22CFB-073D-450B-A8E8-549F3444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98724-D019-4531-B49C-F15C8743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C4306-6D2A-4DB6-8FED-3536A70A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CD183-BE70-48F7-842A-C37FAF72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73F-B13E-4CC1-ABA0-182493CC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03CB-4B0E-4FA4-BC90-7398B1687D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B2B1-1E14-48F3-8DF4-F73BF6808D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14B0-3F9E-4413-8678-2A746A6700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B3EE-4C9C-457A-81F0-1BF255D648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C62A-E443-4EBD-9F37-176C06FAE0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84EF-2364-44D4-82CF-7DFE79F2F6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C588-5331-4D64-B597-F2F47D79D9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5645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07696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effects of the Great Depression on the American people in the 1930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5" descr="http://www.autolife.umd.umich.edu/Design/Gartman/D_Casestudy/ID74271_2_depression_apples.gif"/>
          <p:cNvPicPr/>
          <p:nvPr/>
        </p:nvPicPr>
        <p:blipFill>
          <a:blip r:embed="rId2"/>
          <a:stretch/>
        </p:blipFill>
        <p:spPr>
          <a:xfrm>
            <a:off x="2133720" y="657360"/>
            <a:ext cx="5008320" cy="4066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http://1.bp.blogspot.com/_t85Xg4Dg49I/SOJ1bJeMzNI/AAAAAAAAA8k/dhpeDyAiv5Q/s400/Headline%20Crash1.jpg"/>
          <p:cNvPicPr/>
          <p:nvPr/>
        </p:nvPicPr>
        <p:blipFill>
          <a:blip r:embed="rId3"/>
          <a:stretch/>
        </p:blipFill>
        <p:spPr>
          <a:xfrm rot="20909400">
            <a:off x="163440" y="212724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http://www.historicalnews.com/ebay/2012-11-28/Nov2012X28SA19393.jpg"/>
          <p:cNvPicPr/>
          <p:nvPr/>
        </p:nvPicPr>
        <p:blipFill>
          <a:blip r:embed="rId4"/>
          <a:stretch/>
        </p:blipFill>
        <p:spPr>
          <a:xfrm rot="851400">
            <a:off x="6013440" y="64800"/>
            <a:ext cx="33321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www.csa.com/discoveryguides/refugee/images/dustbowl.gif"/>
          <p:cNvPicPr/>
          <p:nvPr/>
        </p:nvPicPr>
        <p:blipFill>
          <a:blip r:embed="rId1"/>
          <a:stretch/>
        </p:blipFill>
        <p:spPr>
          <a:xfrm>
            <a:off x="609480" y="685800"/>
            <a:ext cx="7994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www.weru.ksu.edu/new_weru/multimedia/dustbowl/big/theb1365.jpg"/>
          <p:cNvPicPr/>
          <p:nvPr/>
        </p:nvPicPr>
        <p:blipFill>
          <a:blip r:embed="rId1"/>
          <a:stretch/>
        </p:blipFill>
        <p:spPr>
          <a:xfrm>
            <a:off x="152280" y="457200"/>
            <a:ext cx="8852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1.bp.blogspot.com/_pZO0lOEj1oo/Spwsw6AXWpI/AAAAAAAACcg/bgahCrFLN4k/s400/dust+bowl.jpg"/>
          <p:cNvPicPr/>
          <p:nvPr/>
        </p:nvPicPr>
        <p:blipFill>
          <a:blip r:embed="rId1"/>
          <a:stretch/>
        </p:blipFill>
        <p:spPr>
          <a:xfrm>
            <a:off x="111240" y="533520"/>
            <a:ext cx="8880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http://upload.wikimedia.org/wikipedia/commons/5/5f/Dust_Bowl_Oklahoma.jpg"/>
          <p:cNvPicPr/>
          <p:nvPr/>
        </p:nvPicPr>
        <p:blipFill>
          <a:blip r:embed="rId1"/>
          <a:stretch/>
        </p:blipFill>
        <p:spPr>
          <a:xfrm>
            <a:off x="1447920" y="76320"/>
            <a:ext cx="639288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-360" y="1774800"/>
            <a:ext cx="3886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hotographed migrant families during the Depress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9" name="Picture 2" descr="http://www.lightmediation.net/blog/wp-content/myfotos/lange/00000059082.jpg"/>
          <p:cNvPicPr/>
          <p:nvPr/>
        </p:nvPicPr>
        <p:blipFill>
          <a:blip r:embed="rId2"/>
          <a:stretch/>
        </p:blipFill>
        <p:spPr>
          <a:xfrm>
            <a:off x="4172040" y="1523880"/>
            <a:ext cx="4819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File:Lange-MigrantMother02.jpg"/>
          <p:cNvPicPr/>
          <p:nvPr/>
        </p:nvPicPr>
        <p:blipFill>
          <a:blip r:embed="rId1"/>
          <a:stretch/>
        </p:blipFill>
        <p:spPr>
          <a:xfrm>
            <a:off x="1981080" y="76320"/>
            <a:ext cx="51530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http://2.bp.blogspot.com/-1wtUfz7uEwQ/TkRgyzEnGlI/AAAAAAAAAFs/PBUWP20-wg8/s1600/great-depression+homeless+4.jpg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ttp://media-cache-ec0.pinimg.com/736x/93/df/32/93df32cd6185b36fac8ed35f5ca756da.jpg"/>
          <p:cNvPicPr/>
          <p:nvPr/>
        </p:nvPicPr>
        <p:blipFill>
          <a:blip r:embed="rId1"/>
          <a:stretch/>
        </p:blipFill>
        <p:spPr>
          <a:xfrm>
            <a:off x="1371600" y="46080"/>
            <a:ext cx="659124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4.bp.blogspot.com/-dljX2q-bGg0/TtYvvOm_bHI/AAAAAAAAO8A/JMlmDLtGANI/s640/dorothea+lange+depression+era+photographs+21.jpg"/>
          <p:cNvPicPr/>
          <p:nvPr/>
        </p:nvPicPr>
        <p:blipFill>
          <a:blip r:embed="rId1"/>
          <a:stretch/>
        </p:blipFill>
        <p:spPr>
          <a:xfrm>
            <a:off x="1371600" y="122400"/>
            <a:ext cx="642636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-152640" y="1447560"/>
            <a:ext cx="4576680" cy="5405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Business Failures: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1929-32--85,000 closed their doors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er capita income (a year)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29 -- $681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 -- $49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eekly income of a typical worker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29 -- $4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 -- $16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6" name="Picture 5" descr="http://img.bhs4.com/60/c/60c53b028a93dbc3ef6c39cbae0021fc3d40d0f6_large.jpg"/>
          <p:cNvPicPr/>
          <p:nvPr/>
        </p:nvPicPr>
        <p:blipFill>
          <a:blip r:embed="rId2"/>
          <a:stretch/>
        </p:blipFill>
        <p:spPr>
          <a:xfrm>
            <a:off x="4419720" y="175248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479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Unemployment reached 25%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ousands of men left home looking for wor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0" name="Picture 5" descr="http://www.doctorhousingbubble.com/wp-content/uploads/2008/05/gdunemployment.gif"/>
          <p:cNvPicPr/>
          <p:nvPr/>
        </p:nvPicPr>
        <p:blipFill>
          <a:blip r:embed="rId2"/>
          <a:stretch/>
        </p:blipFill>
        <p:spPr>
          <a:xfrm>
            <a:off x="388800" y="2654280"/>
            <a:ext cx="83743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-76320" y="1447920"/>
            <a:ext cx="40687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st bank closures occurred in agricultural areas because farmers experienced such poor condition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bout 550 banks went out of business from July 1, 1928, to June 30, 192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om 1929-32 - 9,000 fail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9,000,000 accounts wiped out fore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9" name="Picture 6" descr="http://www.doctorhousingbubble.com/wp-content/uploads/2008/07/american_union_bank.gif"/>
          <p:cNvPicPr/>
          <p:nvPr/>
        </p:nvPicPr>
        <p:blipFill>
          <a:blip r:embed="rId2"/>
          <a:stretch/>
        </p:blipFill>
        <p:spPr>
          <a:xfrm>
            <a:off x="3962520" y="1887480"/>
            <a:ext cx="51354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ttp://www.wfu.edu/history/StudentWork/whistory/timeline/namerica/unemployed.jpg"/>
          <p:cNvPicPr/>
          <p:nvPr/>
        </p:nvPicPr>
        <p:blipFill>
          <a:blip r:embed="rId1"/>
          <a:stretch/>
        </p:blipFill>
        <p:spPr>
          <a:xfrm>
            <a:off x="142920" y="304920"/>
            <a:ext cx="88488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21960" y="1733040"/>
            <a:ext cx="3406680" cy="5200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Widespread hunger took over the countr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Bread lines are created where people can get hand-outs of fo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3" name="Picture 5" descr="http://2.bp.blogspot.com/-wljlwtZTTFU/UFuqDVmMvQI/AAAAAAAAc9M/8Ntvtx3cG2M/s1600/hunger+america.png"/>
          <p:cNvPicPr/>
          <p:nvPr/>
        </p:nvPicPr>
        <p:blipFill>
          <a:blip r:embed="rId2"/>
          <a:stretch/>
        </p:blipFill>
        <p:spPr>
          <a:xfrm>
            <a:off x="3352680" y="1790640"/>
            <a:ext cx="56865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2.bp.blogspot.com/_xRraVcfa3GM/SZRG-Kp7e2I/AAAAAAAABxk/Yx1rlaZDSvU/s400/2008-07-15_4_GreatDepression-Blacks-SoupLine.jpg"/>
          <p:cNvPicPr/>
          <p:nvPr/>
        </p:nvPicPr>
        <p:blipFill>
          <a:blip r:embed="rId1"/>
          <a:stretch/>
        </p:blipFill>
        <p:spPr>
          <a:xfrm>
            <a:off x="228600" y="152280"/>
            <a:ext cx="86947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http://upload.wikimedia.org/wikipedia/commons/thumb/e/e3/US_Unemployment_1890-2011.gif/383px-US_Unemployment_1890-2011.gif"/>
          <p:cNvPicPr/>
          <p:nvPr/>
        </p:nvPicPr>
        <p:blipFill>
          <a:blip r:embed="rId1"/>
          <a:stretch/>
        </p:blipFill>
        <p:spPr>
          <a:xfrm>
            <a:off x="90360" y="1143000"/>
            <a:ext cx="8901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depression-unemployment"/>
          <p:cNvPicPr/>
          <p:nvPr/>
        </p:nvPicPr>
        <p:blipFill>
          <a:blip r:embed="rId1"/>
          <a:stretch/>
        </p:blipFill>
        <p:spPr>
          <a:xfrm>
            <a:off x="76320" y="76320"/>
            <a:ext cx="6319800" cy="5029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america20xy.com/blog6/wp-content/uploads/2011/06/2_great_depression.jpg"/>
          <p:cNvPicPr/>
          <p:nvPr/>
        </p:nvPicPr>
        <p:blipFill>
          <a:blip r:embed="rId2"/>
          <a:stretch/>
        </p:blipFill>
        <p:spPr>
          <a:xfrm>
            <a:off x="3794040" y="2819520"/>
            <a:ext cx="5197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0" y="1371600"/>
            <a:ext cx="91440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Roughly one and a half million were left homeles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s included families and childre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Hoovervilles = makeshift houses that people made of whatever materials they could ge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2362320" y="3452760"/>
            <a:ext cx="4419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http://media-cache-ak0.pinimg.com/736x/1a/2e/03/1a2e033f47f61ae6e37d4236345e0955.jpg"/>
          <p:cNvPicPr/>
          <p:nvPr/>
        </p:nvPicPr>
        <p:blipFill>
          <a:blip r:embed="rId1"/>
          <a:stretch/>
        </p:blipFill>
        <p:spPr>
          <a:xfrm>
            <a:off x="152280" y="76320"/>
            <a:ext cx="881244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www.nuttyhistory.com/uploads/1/2/1/5/12150034/8974008_orig.jpg?1"/>
          <p:cNvPicPr/>
          <p:nvPr/>
        </p:nvPicPr>
        <p:blipFill>
          <a:blip r:embed="rId1"/>
          <a:stretch/>
        </p:blipFill>
        <p:spPr>
          <a:xfrm>
            <a:off x="76320" y="514440"/>
            <a:ext cx="90169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http://www.truthalyzer.com/wp-content/themes/tent-city1.jpg"/>
          <p:cNvPicPr/>
          <p:nvPr/>
        </p:nvPicPr>
        <p:blipFill>
          <a:blip r:embed="rId1"/>
          <a:stretch/>
        </p:blipFill>
        <p:spPr>
          <a:xfrm>
            <a:off x="52560" y="609480"/>
            <a:ext cx="8908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-360" y="1447920"/>
            <a:ext cx="563868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Dust Bow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ffected the Great Plai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; Drought struck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ust sto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ny moved west to California but remained homeless and poo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John Steinbec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merican autho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rote about the troubles of farmers in his book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The Grapes of Wrat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 rot="599400">
            <a:off x="5627160" y="1752120"/>
            <a:ext cx="30229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9:17:38Z</dcterms:created>
  <dc:creator>LATHOMPS</dc:creator>
  <dc:description/>
  <dc:language>en-US</dc:language>
  <cp:lastModifiedBy>Vickie J. Dean</cp:lastModifiedBy>
  <dcterms:modified xsi:type="dcterms:W3CDTF">2014-02-18T22:19:17Z</dcterms:modified>
  <cp:revision>9</cp:revision>
  <dc:subject/>
  <dc:title>Great Depression in America</dc:title>
</cp:coreProperties>
</file>